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4297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1714680"/>
            <a:ext cx="28803240" cy="71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284720"/>
                <a:tab algn="l" pos="8569440"/>
              </a:tabLst>
            </a:pPr>
            <a:endParaRPr b="0" lang="en-US" sz="2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10056240"/>
            <a:ext cx="288032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600200" y="23075640"/>
            <a:ext cx="288032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1714680"/>
            <a:ext cx="28803240" cy="71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284720"/>
                <a:tab algn="l" pos="8569440"/>
              </a:tabLst>
            </a:pPr>
            <a:endParaRPr b="0" lang="en-US" sz="2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10056240"/>
            <a:ext cx="140558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359120" y="10056240"/>
            <a:ext cx="140558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23075640"/>
            <a:ext cx="140558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6359120" y="23075640"/>
            <a:ext cx="140558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1714680"/>
            <a:ext cx="28803240" cy="71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284720"/>
                <a:tab algn="l" pos="8569440"/>
              </a:tabLst>
            </a:pPr>
            <a:endParaRPr b="0" lang="en-US" sz="2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0056240"/>
            <a:ext cx="927432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338560" y="10056240"/>
            <a:ext cx="927432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076920" y="10056240"/>
            <a:ext cx="927432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00200" y="23075640"/>
            <a:ext cx="927432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11338560" y="23075640"/>
            <a:ext cx="927432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21076920" y="23075640"/>
            <a:ext cx="927432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1714680"/>
            <a:ext cx="28803240" cy="71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284720"/>
                <a:tab algn="l" pos="8569440"/>
              </a:tabLst>
            </a:pPr>
            <a:endParaRPr b="0" lang="en-US" sz="2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600200" y="10056240"/>
            <a:ext cx="28803240" cy="249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50"/>
              </a:spcBef>
              <a:buNone/>
              <a:tabLst>
                <a:tab algn="l" pos="0"/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00200" y="1714680"/>
            <a:ext cx="28803240" cy="71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284720"/>
                <a:tab algn="l" pos="8569440"/>
              </a:tabLst>
            </a:pPr>
            <a:endParaRPr b="0" lang="en-US" sz="2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600200" y="10056240"/>
            <a:ext cx="28803240" cy="249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00200" y="1714680"/>
            <a:ext cx="28803240" cy="71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284720"/>
                <a:tab algn="l" pos="8569440"/>
              </a:tabLst>
            </a:pPr>
            <a:endParaRPr b="0" lang="en-US" sz="2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600200" y="10056240"/>
            <a:ext cx="14055840" cy="249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6359120" y="10056240"/>
            <a:ext cx="14055840" cy="249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1714680"/>
            <a:ext cx="28803240" cy="71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284720"/>
                <a:tab algn="l" pos="8569440"/>
              </a:tabLst>
            </a:pPr>
            <a:endParaRPr b="0" lang="en-US" sz="2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600200" y="1714680"/>
            <a:ext cx="28803240" cy="332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1714680"/>
            <a:ext cx="28803240" cy="71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284720"/>
                <a:tab algn="l" pos="8569440"/>
              </a:tabLst>
            </a:pPr>
            <a:endParaRPr b="0" lang="en-US" sz="2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0056240"/>
            <a:ext cx="140558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59120" y="10056240"/>
            <a:ext cx="14055840" cy="249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600200" y="23075640"/>
            <a:ext cx="140558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1714680"/>
            <a:ext cx="28803240" cy="71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284720"/>
                <a:tab algn="l" pos="8569440"/>
              </a:tabLst>
            </a:pPr>
            <a:endParaRPr b="0" lang="en-US" sz="2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10056240"/>
            <a:ext cx="14055840" cy="249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6359120" y="10056240"/>
            <a:ext cx="140558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359120" y="23075640"/>
            <a:ext cx="140558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1714680"/>
            <a:ext cx="28803240" cy="71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284720"/>
                <a:tab algn="l" pos="8569440"/>
              </a:tabLst>
            </a:pPr>
            <a:endParaRPr b="0" lang="en-US" sz="2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10056240"/>
            <a:ext cx="140558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6359120" y="10056240"/>
            <a:ext cx="140558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23075640"/>
            <a:ext cx="28803240" cy="11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50"/>
              </a:spcBef>
              <a:buNone/>
              <a:tabLst>
                <a:tab algn="l" pos="4284720"/>
                <a:tab algn="l" pos="8569440"/>
              </a:tabLst>
            </a:pP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image" Target="../media/image8.pct"/><Relationship Id="rId9" Type="http://schemas.openxmlformats.org/officeDocument/2006/relationships/image" Target="../media/image9.pct"/><Relationship Id="rId10" Type="http://schemas.openxmlformats.org/officeDocument/2006/relationships/image" Target="../media/image10.pct"/><Relationship Id="rId11" Type="http://schemas.openxmlformats.org/officeDocument/2006/relationships/image" Target="../media/image11.pct"/><Relationship Id="rId12" Type="http://schemas.openxmlformats.org/officeDocument/2006/relationships/image" Target="../media/image12.pct"/><Relationship Id="rId13" Type="http://schemas.openxmlformats.org/officeDocument/2006/relationships/image" Target="../media/image13.pct"/><Relationship Id="rId14" Type="http://schemas.openxmlformats.org/officeDocument/2006/relationships/image" Target="../media/image14.pct"/><Relationship Id="rId15" Type="http://schemas.openxmlformats.org/officeDocument/2006/relationships/image" Target="../media/image15.pct"/><Relationship Id="rId16" Type="http://schemas.openxmlformats.org/officeDocument/2006/relationships/image" Target="../media/image16.pct"/><Relationship Id="rId17" Type="http://schemas.openxmlformats.org/officeDocument/2006/relationships/image" Target="../media/image17.pct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25908120" y="36118800"/>
            <a:ext cx="30477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14706720" y="11887200"/>
            <a:ext cx="5562360" cy="518148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724280" y="457200"/>
            <a:ext cx="22326840" cy="4343400"/>
          </a:xfrm>
          <a:prstGeom prst="rect">
            <a:avLst/>
          </a:prstGeom>
          <a:solidFill>
            <a:srgbClr val="ffffff"/>
          </a:solidFill>
          <a:ln w="10152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187880"/>
                <a:tab algn="r" pos="187452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n a MEMS-Based Parametrically Amplified Atomic Force Sensor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187880"/>
                <a:tab algn="r" pos="18745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187880"/>
                <a:tab algn="r" pos="18745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ichael B. Wolfson† and Noel C. MacDonald‡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187880"/>
                <a:tab algn="r" pos="18745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87880"/>
                <a:tab algn="r" pos="18745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†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rnell Univers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‡ University of California, Santa Barba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87880"/>
                <a:tab algn="r" pos="18745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750 N King Rd, #120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gineering II Building., Room 235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87880"/>
                <a:tab algn="r" pos="18745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n Jose, CA 95133-1565, US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nta Barbara, CA 93106-5070, U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87880"/>
                <a:tab algn="r" pos="18745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mail: mw34@cornell.edu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mail: nmacd@engineering.ucsb.ed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187880"/>
                <a:tab algn="r" pos="18745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one: +1 (408) 272-012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one: +1 (805) 893-511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279720" y="11931480"/>
            <a:ext cx="4165560" cy="5423040"/>
          </a:xfrm>
          <a:prstGeom prst="rect">
            <a:avLst/>
          </a:prstGeom>
          <a:solidFill>
            <a:srgbClr val="ffffff"/>
          </a:solidFill>
          <a:ln w="507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7419400" y="12071520"/>
            <a:ext cx="3898800" cy="52066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7838440" y="11201400"/>
            <a:ext cx="3111480" cy="44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902160" y="11217240"/>
            <a:ext cx="289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" y="11887200"/>
            <a:ext cx="8534160" cy="5638680"/>
            <a:chOff x="457200" y="11887200"/>
            <a:chExt cx="8534160" cy="5638680"/>
          </a:xfrm>
        </p:grpSpPr>
        <p:sp>
          <p:nvSpPr>
            <p:cNvPr id="44" name=""/>
            <p:cNvSpPr/>
            <p:nvPr/>
          </p:nvSpPr>
          <p:spPr>
            <a:xfrm>
              <a:off x="457200" y="11887200"/>
              <a:ext cx="8534160" cy="5638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657000" y="11998080"/>
              <a:ext cx="7975800" cy="545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"/>
          <p:cNvGrpSpPr/>
          <p:nvPr/>
        </p:nvGrpSpPr>
        <p:grpSpPr>
          <a:xfrm>
            <a:off x="16154280" y="20073960"/>
            <a:ext cx="7848720" cy="6138360"/>
            <a:chOff x="16154280" y="20073960"/>
            <a:chExt cx="7848720" cy="6138360"/>
          </a:xfrm>
        </p:grpSpPr>
        <p:sp>
          <p:nvSpPr>
            <p:cNvPr id="47" name=""/>
            <p:cNvSpPr/>
            <p:nvPr/>
          </p:nvSpPr>
          <p:spPr>
            <a:xfrm>
              <a:off x="16384320" y="21526200"/>
              <a:ext cx="6248520" cy="4686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16459200" y="21597840"/>
              <a:ext cx="6095880" cy="45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6228440" y="20073960"/>
              <a:ext cx="6265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, we see that we can achieve very high gain with thi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 under the right condition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154280" y="20835720"/>
              <a:ext cx="7848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mp is at 5.7 kHz, varying from 4 to 8 V p-p with a 3 V DC offs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ignal is ramped from 0 to 100 Hz at 10 V p-p. Max gain is 316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4003000" y="20073960"/>
            <a:ext cx="7315200" cy="5753160"/>
            <a:chOff x="24003000" y="20073960"/>
            <a:chExt cx="7315200" cy="5753160"/>
          </a:xfrm>
        </p:grpSpPr>
        <p:sp>
          <p:nvSpPr>
            <p:cNvPr id="52" name=""/>
            <p:cNvSpPr/>
            <p:nvPr/>
          </p:nvSpPr>
          <p:spPr>
            <a:xfrm>
              <a:off x="24231600" y="21141000"/>
              <a:ext cx="6248160" cy="4686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24306120" y="21216960"/>
              <a:ext cx="6095880" cy="45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4003360" y="20073960"/>
              <a:ext cx="6336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, we see that we can achieve a linear response over 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rang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003000" y="20759760"/>
              <a:ext cx="73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mp is at 10 kHz at 8 V p-p. Signal is measured at 5 frequenci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0574000" y="11887200"/>
            <a:ext cx="6400800" cy="6400800"/>
            <a:chOff x="20574000" y="11887200"/>
            <a:chExt cx="6400800" cy="6400800"/>
          </a:xfrm>
        </p:grpSpPr>
        <p:sp>
          <p:nvSpPr>
            <p:cNvPr id="57" name=""/>
            <p:cNvSpPr/>
            <p:nvPr/>
          </p:nvSpPr>
          <p:spPr>
            <a:xfrm>
              <a:off x="20574000" y="11887200"/>
              <a:ext cx="6400800" cy="640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20651760" y="11964960"/>
              <a:ext cx="6242040" cy="624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8993160" y="30637080"/>
            <a:ext cx="6858000" cy="426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1840" y="28803600"/>
            <a:ext cx="6723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, we can see all of the harmonics 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e operate the parametric amplifi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how the harmonics near the pump are largest amplitu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mp is 3 V p-p with 5 V DC. Signal is pseudo-ran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5 V from 1 to 3 k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9067680" y="30708720"/>
            <a:ext cx="6705720" cy="4120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689240" y="30098880"/>
            <a:ext cx="6858000" cy="426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993080" y="29337120"/>
            <a:ext cx="629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rotate the previous data to give a clearer view 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amplitu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16764120" y="30175200"/>
            <a:ext cx="6705360" cy="412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841080" y="30327480"/>
            <a:ext cx="6248520" cy="472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841800" y="28194120"/>
            <a:ext cx="65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er view of gain.  This is a “cross-section” at a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ach voltage of  10.8 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ip is resonating at 2898 Hz at -28.1 dBV.  The out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is at 6145 Hz at -17.65 dBV.  Gain is 10.45 d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ighest gain we have measured is 47.75 d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24917400" y="30403800"/>
            <a:ext cx="6095880" cy="457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47560" y="28727280"/>
            <a:ext cx="6516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, we demonstrate that the resonant frequency depen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istance between the tip and the samp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ystem is driven by a 5 V pseudo-random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ple approach actuator is ramped from 16 to 19.5 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0098880"/>
            <a:ext cx="7086600" cy="441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101200" y="11258640"/>
            <a:ext cx="1359000" cy="44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163480" y="11277720"/>
            <a:ext cx="120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M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452240" y="11290320"/>
            <a:ext cx="2730240" cy="44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515240" y="11353680"/>
            <a:ext cx="2559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p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65640" y="11290320"/>
            <a:ext cx="3263760" cy="44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360" y="11353680"/>
            <a:ext cx="304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EAM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20320" y="11887200"/>
            <a:ext cx="5257800" cy="464832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9296280" y="11963520"/>
            <a:ext cx="5118120" cy="4457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14859000" y="12039480"/>
            <a:ext cx="5334120" cy="4915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319520" y="11214000"/>
            <a:ext cx="2654280" cy="44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382880" y="11277720"/>
            <a:ext cx="252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6611480" y="5410080"/>
            <a:ext cx="6565680" cy="2108160"/>
            <a:chOff x="16611480" y="5410080"/>
            <a:chExt cx="6565680" cy="2108160"/>
          </a:xfrm>
        </p:grpSpPr>
        <p:sp>
          <p:nvSpPr>
            <p:cNvPr id="82" name=""/>
            <p:cNvSpPr/>
            <p:nvPr/>
          </p:nvSpPr>
          <p:spPr>
            <a:xfrm>
              <a:off x="16611480" y="5410080"/>
              <a:ext cx="6565680" cy="210816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1"/>
            <a:stretch/>
          </p:blipFill>
          <p:spPr>
            <a:xfrm>
              <a:off x="16917840" y="5709960"/>
              <a:ext cx="5892840" cy="149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16763760" y="7848720"/>
            <a:ext cx="8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600760" y="7912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44560" y="7848720"/>
            <a:ext cx="2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11320" y="7940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417600" y="784872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972360" y="79120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16160" y="7848720"/>
            <a:ext cx="2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582920" y="79405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4840" y="8183520"/>
            <a:ext cx="360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(t) is the time-varying reac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6764120" y="8534520"/>
            <a:ext cx="698400" cy="685800"/>
            <a:chOff x="16764120" y="8534520"/>
            <a:chExt cx="698400" cy="685800"/>
          </a:xfrm>
        </p:grpSpPr>
        <p:grpSp>
          <p:nvGrpSpPr>
            <p:cNvPr id="94" name=""/>
            <p:cNvGrpSpPr/>
            <p:nvPr/>
          </p:nvGrpSpPr>
          <p:grpSpPr>
            <a:xfrm>
              <a:off x="17043480" y="8877600"/>
              <a:ext cx="114480" cy="342720"/>
              <a:chOff x="17043480" y="8877600"/>
              <a:chExt cx="114480" cy="342720"/>
            </a:xfrm>
          </p:grpSpPr>
          <p:sp>
            <p:nvSpPr>
              <p:cNvPr id="95" name=""/>
              <p:cNvSpPr/>
              <p:nvPr/>
            </p:nvSpPr>
            <p:spPr>
              <a:xfrm>
                <a:off x="17043480" y="9182160"/>
                <a:ext cx="507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17043480" y="9131400"/>
                <a:ext cx="11448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043480" y="9068040"/>
                <a:ext cx="1144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17043480" y="9017280"/>
                <a:ext cx="11448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7043480" y="8953560"/>
                <a:ext cx="11448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17043480" y="8902800"/>
                <a:ext cx="11448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094240" y="8877600"/>
                <a:ext cx="6372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7107200" y="8763120"/>
              <a:ext cx="1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4120" y="8534520"/>
              <a:ext cx="698400" cy="241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821360" y="855360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910640" y="8579160"/>
              <a:ext cx="27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,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7576280" y="8564400"/>
            <a:ext cx="44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perfect bandpass filter at frequency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391520" y="5334120"/>
            <a:ext cx="8508960" cy="3517920"/>
            <a:chOff x="7391520" y="5334120"/>
            <a:chExt cx="8508960" cy="3517920"/>
          </a:xfrm>
        </p:grpSpPr>
        <p:pic>
          <p:nvPicPr>
            <p:cNvPr id="108" name="" descr=""/>
            <p:cNvPicPr/>
            <p:nvPr/>
          </p:nvPicPr>
          <p:blipFill>
            <a:blip r:embed="rId12"/>
            <a:stretch/>
          </p:blipFill>
          <p:spPr>
            <a:xfrm>
              <a:off x="7391520" y="6159600"/>
              <a:ext cx="8508960" cy="26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699400" y="5334120"/>
              <a:ext cx="4559400" cy="444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61680" y="5397480"/>
              <a:ext cx="440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nley-Rowe Power Re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4153120" y="5410080"/>
            <a:ext cx="6835680" cy="3198960"/>
            <a:chOff x="24153120" y="5410080"/>
            <a:chExt cx="6835680" cy="3198960"/>
          </a:xfrm>
        </p:grpSpPr>
        <p:sp>
          <p:nvSpPr>
            <p:cNvPr id="112" name=""/>
            <p:cNvSpPr/>
            <p:nvPr/>
          </p:nvSpPr>
          <p:spPr>
            <a:xfrm>
              <a:off x="24153120" y="5410080"/>
              <a:ext cx="6125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 will be using a variable electrostatic stiffness as ou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-varying react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24383880" y="6019920"/>
                  <a:ext cx="5180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echanical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lectrical</m:t>
                              </m:r>
                            </m:sub>
                          </m:sSub>
                        </m:e>
                      </m:d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xcite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24154920" y="6613560"/>
              <a:ext cx="6516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is stiffness is generated from a parallel plate electrostat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uato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25766640" y="7023240"/>
                  <a:ext cx="241308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lectrical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l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24154560" y="7985160"/>
              <a:ext cx="68342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re 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is the voltage applied across the plates, d is the ini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p,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l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is the stable point, and A is the area of the plat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915040" y="20116800"/>
            <a:ext cx="8001360" cy="6400800"/>
            <a:chOff x="8915040" y="20116800"/>
            <a:chExt cx="8001360" cy="6400800"/>
          </a:xfrm>
        </p:grpSpPr>
        <p:sp>
          <p:nvSpPr>
            <p:cNvPr id="118" name=""/>
            <p:cNvSpPr/>
            <p:nvPr/>
          </p:nvSpPr>
          <p:spPr>
            <a:xfrm>
              <a:off x="9069120" y="21831480"/>
              <a:ext cx="6248520" cy="4686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3"/>
            <a:stretch/>
          </p:blipFill>
          <p:spPr>
            <a:xfrm>
              <a:off x="9144000" y="21902760"/>
              <a:ext cx="6095880" cy="457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915040" y="20116800"/>
              <a:ext cx="68587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, we demonstrate that the gain observes the Manley-Row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 relationship.  For a simple system, the gain i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to the ratio of frequenci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915400" y="21141000"/>
              <a:ext cx="8001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mp is at 5 kHz.  The signal is ramped from 20 to 350 Hz. W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ve averaged over input amplitudes of 2.5 V to 10 V p-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3506480" y="24180840"/>
                  <a:ext cx="114120" cy="1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l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"/>
          <p:cNvGrpSpPr/>
          <p:nvPr/>
        </p:nvGrpSpPr>
        <p:grpSpPr>
          <a:xfrm>
            <a:off x="762480" y="19591200"/>
            <a:ext cx="7543080" cy="6926400"/>
            <a:chOff x="762480" y="19591200"/>
            <a:chExt cx="7543080" cy="6926400"/>
          </a:xfrm>
        </p:grpSpPr>
        <p:sp>
          <p:nvSpPr>
            <p:cNvPr id="124" name=""/>
            <p:cNvSpPr/>
            <p:nvPr/>
          </p:nvSpPr>
          <p:spPr>
            <a:xfrm>
              <a:off x="1373400" y="22250520"/>
              <a:ext cx="6858000" cy="4267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4"/>
            <a:stretch/>
          </p:blipFill>
          <p:spPr>
            <a:xfrm>
              <a:off x="1447920" y="22321800"/>
              <a:ext cx="6705720" cy="41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62480" y="20264400"/>
              <a:ext cx="754308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, we demonstrate that the output amplitude depends on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pedance in the system (impedance is least at resonance, 5.91 kHz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ystem is pumped by an 8V p-p signal at 5.6 k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input signal is ramped from 10 to 400 Hz at 8 V p-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8880" y="21407400"/>
              <a:ext cx="2133720" cy="1905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5"/>
            <a:stretch/>
          </p:blipFill>
          <p:spPr>
            <a:xfrm>
              <a:off x="1067040" y="21483720"/>
              <a:ext cx="20955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832480" y="19591200"/>
              <a:ext cx="3797280" cy="444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94400" y="19654920"/>
              <a:ext cx="359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rametric Ampl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0" y="10591920"/>
            <a:ext cx="3200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050120"/>
            <a:ext cx="3200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7355680"/>
            <a:ext cx="3200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1143000" y="30175200"/>
            <a:ext cx="6940440" cy="4297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55800" y="27965520"/>
            <a:ext cx="3340080" cy="44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8800" y="28028880"/>
            <a:ext cx="32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Force S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839080" y="28054440"/>
            <a:ext cx="7378920" cy="44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901360" y="28117800"/>
            <a:ext cx="718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ric Amplification of Sensed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5509320"/>
            <a:ext cx="3200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658600" y="37185480"/>
            <a:ext cx="69757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ric Amplifier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 of 49.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ampl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s Manley-Rowe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tran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M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s frequency shift of 62.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d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 measured gain of 47.7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y integrated (no assembly or align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ric amplifier mixes and amplifies results of AFM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052440" y="36284040"/>
            <a:ext cx="1587240" cy="44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15080" y="36347400"/>
            <a:ext cx="13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08240" y="5423040"/>
            <a:ext cx="1968480" cy="44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69440" y="5486400"/>
            <a:ext cx="177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587160" y="37261800"/>
            <a:ext cx="5103000" cy="24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hip preamplification of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fier integrated with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effect of parasitic capac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tran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eed to integrate VLSI with M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noise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convert to a higher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920" y="6013440"/>
            <a:ext cx="4819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use nonlinear mixing to raise smal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frequency signals above the noise flo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240" y="6877080"/>
            <a:ext cx="67550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characterized nonlinear component in an otherwi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system, we can convolve a small amplitude, l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signal (signal) with a high frequency, 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tude signal (“carrier” or “pump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720" y="8020080"/>
            <a:ext cx="6061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subset of a phenomenon known as ‘mixing’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in the convolution of two signals produce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all of the  harmon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1080" y="8915400"/>
            <a:ext cx="6921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, at the output, we filter all but one of the harmonic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we can demodulate this signal to restore the initial inp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84440" y="36195120"/>
            <a:ext cx="286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913080" y="36956880"/>
            <a:ext cx="4453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ork would not have been possi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the support of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373160" y="37800000"/>
            <a:ext cx="550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embers of the MacDonald Research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372800" y="38257200"/>
            <a:ext cx="172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NF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372080" y="38714400"/>
            <a:ext cx="136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onix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374240" y="39171600"/>
            <a:ext cx="102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7679400"/>
            <a:ext cx="7848720" cy="285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7"/>
          <a:stretch/>
        </p:blipFill>
        <p:spPr>
          <a:xfrm>
            <a:off x="1981080" y="37795320"/>
            <a:ext cx="7658280" cy="2654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830680" y="36072720"/>
            <a:ext cx="40194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d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64240" y="36149040"/>
            <a:ext cx="374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90840" y="36834840"/>
            <a:ext cx="702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ate (i.e. displacement) of the system was detected using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90120" y="37063440"/>
            <a:ext cx="607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ive sensor via amplitude modulation techniq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91200" y="37292040"/>
            <a:ext cx="551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arrier frequency = 100 kHz, bandwidth = 8.6 kH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95880" y="40690800"/>
            <a:ext cx="837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leads are coaxial/shielded from the pins of the differential amplifier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91920" y="40949640"/>
            <a:ext cx="745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ns of the packaged device to reduce parasitic capacitance/amb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92640" y="41178240"/>
            <a:ext cx="79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19560" y="41605200"/>
            <a:ext cx="7838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ise floor of the circuit corresponds to ~0.9 nm, as calibrated by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tec OFV3001 Laser Vibrometer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86000" y="8626320"/>
            <a:ext cx="31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,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19:45:26Z</dcterms:created>
  <dc:creator>Michael Wolfson</dc:creator>
  <dc:description/>
  <dc:language>en-US</dc:language>
  <cp:lastModifiedBy>Michael Wolfson</cp:lastModifiedBy>
  <cp:lastPrinted>2001-06-02T09:12:53Z</cp:lastPrinted>
  <dcterms:modified xsi:type="dcterms:W3CDTF">2001-06-04T09:02:42Z</dcterms:modified>
  <cp:revision>156</cp:revision>
  <dc:subject/>
  <dc:title>ON A MEMS-BASED PARAMETRICALLY AMPLIFIED ATOMIC FORCE SENSOR</dc:title>
</cp:coreProperties>
</file>